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2B1-484F-4F84-90F0-19C61BF7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981-E8D2-4ACC-8D26-DD8F3BAE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41258-238E-40E2-8C6D-E4AB100B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4C0F1-6AEC-41F4-94C3-D4260D6E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1AE0F-B194-4250-9E69-D8F2EF04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BB6D3-ADF9-4FAC-AC11-1966665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E3AE4-80C2-44C2-9177-B5A4920A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9687E-9A41-43E3-9D89-E7F362F1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13C3D-9264-4079-A2AD-C99C503B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0BEEE-EF3A-4DCC-B737-C3564118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9FD86-FD1F-49DA-8DBC-AD77CBDB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3B0C1-FDCF-437B-8E90-7FFA698B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72A-A776-4164-8CC3-9E3BCFC5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2FDE6-A0D5-41AE-81F7-0ACC1FC8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76324-24D2-4541-BAB1-BCE1060D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C2511-CE15-4C1F-9A0B-1E79A27C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C4334-491D-4F53-9A9F-47887038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EE20F-5EF1-4FCB-85E4-BF6E8B44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F09E4-9E57-42C0-B81F-7C94D02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E7EC6-D63E-42E2-98D4-1605E24E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56723-F78E-4730-977E-A0EA50F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9E337-2B5A-45EF-A93B-2F139D6B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C3E05-4D2E-4E4B-94B6-C74681AA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52D-F882-461B-9373-836E3B39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733A5-8361-4775-80F4-535CE39A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7E505-F09F-4CA4-B34F-0F59FE76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52A77-2EDF-44A1-A838-15B60804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EE1DE-619C-43D0-9A76-AD312843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5C426-6967-486D-9529-7F22ECE6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C15B9-61F2-4255-936D-0A302C33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B4876-6C16-4BE1-96F9-FD79D040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780FE-3891-497E-AC01-C692622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C1351-0A16-4DAC-8E12-80AABD80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12719-983C-4554-926B-D00443C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654F-5B19-4988-B322-1849637F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E6EB5-6A40-4E77-9F34-CBDECED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D7A0B-0F57-4975-BB30-90DF5215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5548D-7CD1-4694-969C-34BCE7C8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108EC-8903-41E2-B58B-F4781A5B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891DA-1C65-4B68-9563-EF18F9B1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E0165-0E4E-4DC9-990F-DE4EA05F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898EE-F278-48ED-959C-E7AFB003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26A66-0305-440D-AC30-5E5D66F1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53837-96BF-4A50-8995-8C2BD008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EE0A0-BD7B-4C7F-9E41-077D5242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3F92-7C2B-4D16-B35A-6F64BD9A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FABD0-C5C9-44F1-9FC5-2D713B43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46FE0-4871-4EBD-B99E-1F0C20DC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0DFD4-F4CD-4EB0-9CA6-2F557A21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1B2CC-7318-433B-8CED-9B9C1C18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97156-2603-4364-A13D-5D829176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1E6B0-1333-4D82-893E-57DE2B0F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7CF78B-E459-4EC5-B822-B2B69F9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69FA5-1EA0-4D7B-8046-EA8BBFA3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82FB1-0846-4767-ABB0-64424D7D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B513E-C8DF-401F-AFCE-2CFBA99F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B38D-85A0-4055-97DD-F79715B2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BA8A4-BC84-499A-AFC3-9917F7AB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90945-B928-40D4-A705-7D8E5E8B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AC14C-6D35-422F-841A-7A940E4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0F139-82A3-4E27-97D9-FFCE99D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FDE47-7310-4C9E-B4DE-AE81E8EF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F24D5-464F-4003-B022-2A293FC0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07E25-D52A-4E3C-A930-91F2640C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06B92-A3A1-4A61-B55A-923EEA87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F7A75-8062-4AD7-89D3-8249D151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8FB83-E517-4379-B9CF-103E7AC5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4BDB-1F78-47D5-9344-57E353E3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AAEDD-5D03-4EF1-9259-117B0D39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EC03F4-F8CC-44C2-9E22-69094661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5E0AA-0773-45EF-96EC-925377B3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6E7194-90D4-4B15-A8E1-DD842FF6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2585C-A97C-4050-A5BB-1646962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1DEF57-BB84-4BA3-8F2F-2B5D479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87D8F-EA21-4BAC-BECC-7DFBC19B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C8D88F-1C7C-4318-A167-3B7F4EEB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C9B3B7-58B7-404A-9D2B-7B8E7E08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52B15-13F5-44D9-A9D0-5E369544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5C00-BDD0-4E3C-BEBE-372D69D7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74AA2-D41D-42D7-AB9C-37EFDD6E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ED450-02D4-445A-BB6C-0C748C7F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04902-57C9-4A9D-88B9-E3D16146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78E55-5CBA-48E6-B4DF-D0261642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C21E6-23DA-4DCF-9FF2-14928DD4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35197-632E-4EE9-8D8A-BF9ACFC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24D49-BD42-4FB6-A0C7-A7655175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22AC3-4119-4FB4-BE5A-B5327B1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0195F7-CB5B-4B81-9BFB-D57CE287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E03228-D9C4-4E73-8D38-DABF9653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D136-D7D8-4E0C-A533-C9C85785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CCE76-04B8-415F-BAB0-342D08E8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FAC03-B2B3-46A0-8205-D2C52F53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89BBA-6986-4EFC-87F2-11E85F12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92778-4C92-4CC6-802A-E1359FA4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B04862-5577-4B1F-B789-1A547DD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AAA72-0C63-4829-841E-DC2109E8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ED95B-12CA-47E1-9521-B17DC9FB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58A8A-030A-46C2-A7ED-2F03625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C3F80-E110-4FFD-A501-34FA87A5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C1C22-CD32-41A2-B25A-3688D8E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2387-09CA-43E7-8FB1-2A54C6A6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BC8F8-8DF3-4AFC-8AEB-B6B23B97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16613-0007-479C-B1E6-09B6564A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6C2037-03B7-487E-8833-6B06BB0E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1072F9-2359-41F2-AFD4-4C2B6EC5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D46CA-C5F4-4D3E-A903-4A85B979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FEF4A-4D90-41F3-922B-6A2A3734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FEFF3-D117-43F8-B574-E89CE44E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E7E1E-F1E0-48C7-9506-84BCC5BD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0E801-5AC7-4924-B73A-7F00EB2B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14D4E-3A34-424C-A3BD-3874D00F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E84-3009-450E-90C6-D415D0A6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0156-B234-47CA-8EDE-B27D0EAC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C4AFC5-F980-4227-A018-B87D02B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6D2FFA-CF98-4D7A-8BB6-06CBA9BD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0D5B51-C98E-4B3D-A9B2-7EEE55A9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4AD3A-5453-4120-AE3E-4DD6302C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0C0B0-B399-479F-9217-4304728A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AEFB0-13EB-42E4-BECD-9AFFE6EB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62758-D90B-4758-AA6A-235A3B5A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0CE27-9535-4C8C-99FC-42EDBB4C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93C177-834D-4CF4-9BC5-8961A92A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97135-BE5A-4503-B1C0-0BBCDBBC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4B26-008C-440E-BE7E-3519DC36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A1C08-F819-4B23-9434-6B181A19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F40C93-C362-4BD4-BFEC-844A1231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B36C2-F69E-4DFF-A90E-5B2F6B99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1532B-2F5C-49E8-869B-D1BCCE2B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E35B32-94C4-4C1E-AA15-373DCF80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C338B-4F97-4F9D-8555-34D395DE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E7723-040C-4FB6-A465-89724432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2F891-AEAB-49BE-BA53-4E3BC2E9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2E25D-5B34-4383-929B-06C70B1C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C6F30C-D0F7-43C0-B950-85D41F6B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3A60-F655-45E0-A277-A65C2354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57554-B95C-42F6-9FDF-0EAAD8BB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AEA63-6503-4669-A5DB-A727E107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E96D5-D1AB-408E-8E90-98010FD7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76F838-9711-43F2-9E75-CDBCC44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4648F-5F93-490C-9084-0AD1DC6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013659-A589-480F-863E-7C22EE6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6FACF-D595-4C2E-B7C2-67305E98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E712EC-6579-494F-97BF-EB86208C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B5FF1-F96E-4593-97B8-20A9A351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562A38-36C1-44E5-8F26-A572FD4D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23E4-8430-4CBA-BC51-B0474619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A63A32-5729-4787-B61D-E76C6356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8BD014-0B6A-4A6B-A660-A4DBBE06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9EC37-F340-4CD0-B5EE-5EC61423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D95B26-0C70-419B-8649-E343F978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27155-513F-409E-B672-3C8E3B0B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EB8C0A-E60D-4112-8150-EB064FB2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D35FA-8747-4DB0-B2DA-FFE455C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823FC-C2AF-41B3-A019-3ABBF1E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E4C3D-C0F1-4B42-8426-58FD2187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C9C67-1089-47AA-A91F-7BEBDD0A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D565-8E06-4574-93F8-28695187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45181-6EB1-46AA-9ECF-5124F632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5F65BB-AA85-4D8A-A9AC-5C51C870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1A16C0-34B4-4C7B-9DA0-0CF58D91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4B3B2-0F8B-4FF4-B89A-37418C00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82E341-1FC5-4EEE-81B3-CC817335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E15C4D-4367-4DB1-BC10-B8CDD597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5EFF0-6C5A-4E66-A536-94E91E3E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EC752-3375-405A-83C2-F52D6FB1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CEE06-B010-4E2F-B3BF-A737C3A8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AB008-C2C9-45A3-A415-2EAE8DE3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138B-20EA-4895-9C48-E2C80332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6ED95-0860-4F1A-ACE1-BBEAA9E6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B0AB0D-6AE0-46E7-A177-2BBD2415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7D6C6B-9A20-49DB-9692-30A969C7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0F6294-7856-4136-BD9E-EB9C4C07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714256-1F33-43BB-B578-FBF161E0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23E74-7A2B-40C2-BB38-7D969134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FC8936-6D9B-418A-AB6B-C66580E6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8A02A-9FA2-40B1-83DC-2033F893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3CC67B-CD69-4CDC-B268-97A2BD3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04563-F9A8-4516-B65C-3E021FB2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39AC-FA82-40E7-B0E0-CD3F8DC1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540D1E-0C82-406C-86FF-F8F782D8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7B5591-371E-4AC9-9B8B-FE17CD48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2FB23B-6887-4580-B00A-0FF5CD55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22218E-9C76-458D-AE8B-D2B66860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3DA835-67DF-4F51-A1C9-6C342B75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6D5368-E271-4646-9DF4-6EE14B0F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2012D7-346D-4E63-BAD8-17403622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0CDCA6-AD2F-464F-9740-5C3AC7CE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641B4D-B924-407D-B875-8A470043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F7E38F-00C3-42AD-AFBD-4D4A3980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F6AA-9D0E-4D18-99B6-053ECB92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2E5477-AD5E-4909-A711-473850E3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3991DF-857E-4B7C-96A3-27DBB45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3F602-50DC-4E08-8F58-ECA14D9C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ED4B25-9F57-483A-9B87-69F511BE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1813B9-20BA-420D-AE4E-DE8EC48D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44BB73-16E5-4FBF-9361-59C33DBF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6DF8D5-0B4E-4DC6-AD98-CAF05991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17FA5B-D9CE-4A0F-917C-4CCBAFDAF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506AA2-1815-46DE-958B-A8889E2D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E14EDD-3CEC-477B-9BA3-7DBB7982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E10A-235C-4C74-A06A-0666B2A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469BEB-99C2-4B52-97D0-6DA81CE0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76F45D-686C-4F53-B23F-19C5B617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E513E2-C090-41E8-ADF5-554A5999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FCE2C0-62DC-40EC-AEAA-77DF34B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23A69E-FDFC-4363-A4C4-02B02E7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71A0CE-A88E-4628-9D4C-D47D371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EAABCC-895C-4A9D-8717-80C4E989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12ECDB-15DE-434D-AE68-81CBA800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BC412C-7284-4F14-9CC9-58DB568F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FD740-295A-445F-AD62-5520780A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D87-A634-4014-A95F-6CD5FA61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7DB20-265D-45E9-A731-E287CAFB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5E96-616D-4A26-8207-B430381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22E0-C983-45EC-B2F5-6934505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A014-F9B7-4767-823E-76FBD880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0DAD-0572-4F98-AD9C-6D8E3791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BEBB2-1D6C-40C9-8DF3-B01240E3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E2FD-C271-421E-A1EC-E3B2594C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14E1A-D893-4497-9D50-7C2382D3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E05A-A3E2-4C70-831F-C4B5BD21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366AA-370F-4277-89EA-46276ECF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CEB-9BE4-4957-99D3-6C3024B4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3A359-6ABD-4F64-A372-D31BFE03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00B83-5737-4B65-A5A8-A5FE938A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6F330-1D7A-40F0-9200-954FDED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BAB2D-9F40-4112-BB76-0B84E3A3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8D402-002D-45A2-A5DB-3FC5AED6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0AC2-4CD6-43D4-AC84-5694DBE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130B-8313-420F-B5EB-0B2CE170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E17C-AA71-46DD-86EE-0B4E708D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1639-19C3-4BAF-A624-D28930AE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13764-6B64-4952-975B-B56E2039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FA3-982C-4E2A-93AF-755FA977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DBAF8-F2A7-4081-95D7-0D0665E2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6C5EF-187A-4A4A-8858-474AD0FA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F9670-F223-4F69-9C78-AD5E1855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661BA-C7AE-4F4C-8200-6317A240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806E8-1B55-4B13-8E3E-8E044D3E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15EA5-58E6-4B19-84DC-895A45B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203EC-5D8F-4A89-9C84-1325C4C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2B93-1D26-4DEF-B11B-DDBE9F15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6D781-EDAC-4946-95AC-1D225983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77477-79FB-4BBC-AFDC-7B6A6D99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C08-6E3C-4600-A80B-803102BF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8BCB-3DC4-4C18-B3B3-A1B95CB4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9DE2A-CD29-4622-BF09-616B1BB7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BD4C9-6699-48E3-9B54-31F60E1B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1E7AE-0064-4BBA-9FCD-4B06A22F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B6CD5-B2AE-47DC-9B4D-F717FCC6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F492-D980-4396-B012-AD42D467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B589B-2912-4E40-A567-55B82BFE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FB5CB-9FA3-480A-A1EB-0FF9DAF5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A8947-EC0F-48CA-BCC7-011ACFE6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618B4-CCFF-4182-9F07-6F5DAF75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CB5-2D58-43EF-8BF8-D016DBB3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AE5E9-7E43-4E9C-A7EB-5CEA42E0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5A15D-AA96-42B3-852F-854095AE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431DD-9716-45D6-A48F-1B316F57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7C6F6-1A2A-4C4C-97F5-C6EF2673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9F313-9CD0-4190-A21C-3DC949C4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AC2C6-6ABE-40BD-B787-43426B4E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F5C14-06AD-497C-BA8A-F8601B2D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BBD17-338D-42BC-80E1-252EA543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387CC-3600-4B89-B629-AB8C0FDC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78656-974B-44A0-907C-F2B606FF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2E5-6385-41A9-9038-FD8B28F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43508-078E-43A9-8C5D-3781867C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347A6-4B0C-4ED9-A6B7-BE8E498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5CB16-3790-4852-8590-EF8E1CC7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8F46-6EAB-4791-A5B1-72A1345A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FCFD4-F5A1-492E-BB2F-705B4441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42287-49F1-4887-983B-2B5C2B71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D53A5-DC7E-4266-BBE9-FE9FF1BE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EA5B0-CCA4-4D95-AD79-4EC0BC8D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E6A29-5CA8-412A-93FF-C1CB1EBE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EA4C1-F783-4ACB-8E9E-AB3A5A95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8E8-FD76-416A-8B86-15FF2E0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521D9-EA14-4010-8D7F-3FBAB2B1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C1831-DC26-41E9-907B-D6F45888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FD2AC-4AB1-4DB4-AF42-E056429F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45200-6E5D-4086-804E-7DE782A8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C198E-A93E-4CF1-A5D9-C4E49013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37E09-957D-4DD9-B9D7-9B201BF4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5B97B-3E3D-44D5-87C3-22CFD687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6C97D-0A5C-4BA5-B835-1D981330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44C1E-C26D-41F4-9ABD-8F4BCF44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CBDE6-3E9F-4581-BDC8-7A59CF52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B879-B933-41F1-947B-569A0CC480B7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5405-7B44-46F5-9D07-1467993A478F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CB43-E5C3-487D-A730-5E1F439B6A77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B8D6-45CD-4B05-A37B-2BD1922D9B54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355F-896B-44FB-ADBF-DB083643F0E6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51E8-E690-4D35-AC07-91A863BDCEE5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9BF7-E04F-4E4B-AED3-E07EA14B7830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EF8-8822-402E-B4E2-2B0CCA47F24E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0DAC-BA96-4184-B96D-C47019BDE44A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7DC-80AA-4530-9C33-B441DCB7872C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541" name="Oval 3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Oval 4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Oval 5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Oval 6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Oval 7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Oval 8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CFA7-A5E6-49D6-9755-37E63D5BD7D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FBD7-9BB3-4BB4-8DA9-FA901B92CE4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4444-534B-4E2A-8B7E-D55796785FE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5A66-0A48-49F7-9EB3-BA0AE86FFA4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0CC5-47E3-4700-B33E-555D93DF0985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416D-7D5D-4461-92A9-CB5B5D3681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10E9-160F-4647-90B2-E62355E96E3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8B43-5594-42D6-8B92-AF1DA0C076F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9EEC-E6E5-4382-8796-B6164CE8A5F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D864-9DBB-4572-BCDE-8E4A3B549D6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BB39-96E2-43C3-A65D-29B71295D4B6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990C-AFF1-4029-81BA-957915D0048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43" name="Oval 4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Oval 5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6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 7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 8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F767-493A-4E77-B1A9-1633CEA467FA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2474-E1AA-419A-8A1E-D3D4977CB99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8F60-2985-4735-9149-8EA9EA770B04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8150-D2ED-4F8A-8C2D-B15BCC4131F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019D-925D-450B-B40D-CC43E2CA1DB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357E-8ADE-406D-843C-AB211DA3234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58D4-F72A-4479-9F83-8AF10A049BBB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9AE5-1760-4D0D-9C8F-3625C332DA2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E5A8-4FE9-43D5-8992-59DDA35B8EB7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BFE4-3264-48D6-841C-4247FB21417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C20E-ADCB-4075-B49D-F8E14C52574F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0DB3-420D-4EE3-BA49-CE3601508B1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EA3A-951D-4A36-B0C6-76DCBC67D4F0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D29E-FE3C-40DF-AB89-4F6C5EE11253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2AD-B966-4ED6-9DC0-7E1FBE425BFB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8FC1-4238-43A9-A357-B061B5B40467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6118-62BC-489F-B9F5-3CBAC05B6F8A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A2DD-BCA2-406F-85BB-D375E31DBD46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3464-D11E-4B00-A63B-1787F94CAA9B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F6AE-B50F-4E7E-B1A6-52829FA0E704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9E5C-BB07-43FF-A4B8-AB40A05B749F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C8AA-A2C7-4C4C-96E5-D1DE9C12B194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BB0D-D3CF-495D-BC72-529F6FC6A789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208C-F84E-40DC-8959-8FA2418A8482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  <a:effectLst>
            <a:outerShdw dist="101520" dir="5400000" blurRad="0" rotWithShape="0">
              <a:srgbClr val="000000">
                <a:alpha val="2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2020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02020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20000"/>
              </a:lnSpc>
              <a:spcBef>
                <a:spcPts val="1001"/>
              </a:spcBef>
              <a:buClr>
                <a:srgbClr val="26262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1" marL="564480" indent="-223920">
              <a:lnSpc>
                <a:spcPct val="120000"/>
              </a:lnSpc>
              <a:spcBef>
                <a:spcPts val="1001"/>
              </a:spcBef>
              <a:buClr>
                <a:srgbClr val="40404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2" marL="987840" indent="-223920">
              <a:lnSpc>
                <a:spcPct val="120000"/>
              </a:lnSpc>
              <a:spcBef>
                <a:spcPts val="1001"/>
              </a:spcBef>
              <a:buClr>
                <a:srgbClr val="595959"/>
              </a:buClr>
              <a:buSzPct val="75000"/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3" marL="148104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4" marL="1904400" indent="-223920">
              <a:lnSpc>
                <a:spcPct val="120000"/>
              </a:lnSpc>
              <a:spcBef>
                <a:spcPts val="1001"/>
              </a:spcBef>
              <a:buClr>
                <a:srgbClr val="80808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5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  <a:p>
            <a:pPr lvl="6" marL="1904400" indent="-22392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6AC1-9652-47EF-958B-8DBC9162BCC7}" type="datetime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F145-4A11-4339-95B7-3221540C383B}" type="slidenum">
              <a:rPr b="0" lang="zh-CN" sz="1200" spc="-1" strike="noStrike">
                <a:solidFill>
                  <a:srgbClr val="898989"/>
                </a:solidFill>
                <a:latin typeface="微软雅黑 Light"/>
                <a:ea typeface="微软雅黑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4"/>
          <p:cNvSpPr/>
          <p:nvPr/>
        </p:nvSpPr>
        <p:spPr>
          <a:xfrm>
            <a:off x="2500200" y="1565280"/>
            <a:ext cx="7194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8700" spc="-1" strike="noStrike">
                <a:solidFill>
                  <a:srgbClr val="ff0000"/>
                </a:solidFill>
                <a:latin typeface="Arial"/>
              </a:rPr>
              <a:t>*  </a:t>
            </a:r>
            <a:r>
              <a:rPr b="0" lang="zh-CN" sz="8700" spc="-1" strike="noStrike">
                <a:solidFill>
                  <a:srgbClr val="ff0000"/>
                </a:solidFill>
                <a:latin typeface="Arial"/>
              </a:rPr>
              <a:t>花之歌</a:t>
            </a: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523880" y="354312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纪伯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Text Box 3"/>
          <p:cNvSpPr/>
          <p:nvPr/>
        </p:nvSpPr>
        <p:spPr>
          <a:xfrm>
            <a:off x="3840120" y="2987640"/>
            <a:ext cx="9266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2112840" y="878040"/>
            <a:ext cx="774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Text Box 5"/>
          <p:cNvSpPr/>
          <p:nvPr/>
        </p:nvSpPr>
        <p:spPr>
          <a:xfrm>
            <a:off x="0" y="1405080"/>
            <a:ext cx="1219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课文是用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第一人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拟人的手法写出了花的心声，这是花在自我歌唱，作者与花融为一体了，花的理想与追求就是作者的理想与追求，因此，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题目“花之歌”</a:t>
            </a: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――“</a:t>
            </a:r>
            <a:r>
              <a:rPr b="0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花的歌唱”是与课文内容吻合的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而题目“花”，就是作者站在旁观者的立场上客观地写花，这与课文内容是不相符的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文本框 3"/>
          <p:cNvSpPr/>
          <p:nvPr/>
        </p:nvSpPr>
        <p:spPr>
          <a:xfrm>
            <a:off x="812880" y="1828800"/>
            <a:ext cx="1046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纪伯伦散文诗最大特色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把要写的事物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拟人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手法隐藏起来，然后再进行比喻描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直接连接符 6"/>
          <p:cNvSpPr/>
          <p:nvPr/>
        </p:nvSpPr>
        <p:spPr>
          <a:xfrm>
            <a:off x="493560" y="3292560"/>
            <a:ext cx="11320560" cy="612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文本框 7"/>
          <p:cNvSpPr/>
          <p:nvPr/>
        </p:nvSpPr>
        <p:spPr>
          <a:xfrm>
            <a:off x="227160" y="635040"/>
            <a:ext cx="11322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Arial"/>
                <a:ea typeface="黑体"/>
              </a:rPr>
              <a:t>朗读第二部分（</a:t>
            </a:r>
            <a:r>
              <a:rPr b="0" lang="en-US" sz="4800" spc="-1" strike="noStrike">
                <a:solidFill>
                  <a:srgbClr val="00b0f0"/>
                </a:solidFill>
                <a:latin typeface="Arial"/>
              </a:rPr>
              <a:t>5-7</a:t>
            </a:r>
            <a:r>
              <a:rPr b="0" lang="zh-CN" sz="4800" spc="-1" strike="noStrike">
                <a:solidFill>
                  <a:srgbClr val="00b0f0"/>
                </a:solidFill>
                <a:latin typeface="Arial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8"/>
          <p:cNvSpPr/>
          <p:nvPr/>
        </p:nvSpPr>
        <p:spPr>
          <a:xfrm>
            <a:off x="141120" y="3349800"/>
            <a:ext cx="11773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边读边想象作者描写的花的形象，说一说哪一个形象最能打动自己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5"/>
          <p:cNvSpPr/>
          <p:nvPr/>
        </p:nvSpPr>
        <p:spPr>
          <a:xfrm>
            <a:off x="304920" y="685800"/>
            <a:ext cx="1158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资料宝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纪伯伦出生在黎巴嫩北部山区的一个农家。十二岁因不堪忍受奥斯曼帝国的残暴统治，随母亲迁往美国波士顿，十五岁只身返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纪伯伦是位热爱祖国，热爱全人类的艺术家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短暂而辉煌的生命之旅中，纪伯伦饱经颠沛流离、痛失亲人、爱情波折、债务缠身与疾病煎熬之苦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生命的最后岁月写下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朦胧中的祖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他讴歌毕生苦恋的祖国“您在我们灵魂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火，是光：您在我的胸膛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我悸动的心脏。”他反对愚昧和陈腐，热爱自由，崇尚正义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直接连接符 6"/>
          <p:cNvSpPr/>
          <p:nvPr/>
        </p:nvSpPr>
        <p:spPr>
          <a:xfrm>
            <a:off x="493560" y="3292560"/>
            <a:ext cx="11320560" cy="612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7"/>
          <p:cNvSpPr/>
          <p:nvPr/>
        </p:nvSpPr>
        <p:spPr>
          <a:xfrm>
            <a:off x="176040" y="720720"/>
            <a:ext cx="113223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黑体"/>
              </a:rPr>
              <a:t>我总是仰望高空，对光明心驰神往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黑体"/>
              </a:rPr>
              <a:t>;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黑体"/>
              </a:rPr>
              <a:t>我从不顾影自怜，也不孤芳自赏。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黑体"/>
              </a:rPr>
              <a:t>如何理解这句话的含义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文本框 8"/>
          <p:cNvSpPr/>
          <p:nvPr/>
        </p:nvSpPr>
        <p:spPr>
          <a:xfrm>
            <a:off x="77760" y="3470400"/>
            <a:ext cx="1192392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作者以花自喻，借花来表达他坚持追求光明和理想，积极向上的人生态度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同侧圆角矩形 2"/>
          <p:cNvSpPr/>
          <p:nvPr/>
        </p:nvSpPr>
        <p:spPr>
          <a:xfrm>
            <a:off x="336600" y="981000"/>
            <a:ext cx="3166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并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2" name="Picture 2" descr=""/>
          <p:cNvPicPr/>
          <p:nvPr/>
        </p:nvPicPr>
        <p:blipFill>
          <a:blip r:embed="rId2"/>
          <a:stretch/>
        </p:blipFill>
        <p:spPr>
          <a:xfrm>
            <a:off x="144360" y="1628640"/>
            <a:ext cx="3934080" cy="60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6" descr=""/>
          <p:cNvPicPr/>
          <p:nvPr/>
        </p:nvPicPr>
        <p:blipFill>
          <a:blip r:embed="rId3"/>
          <a:stretch/>
        </p:blipFill>
        <p:spPr>
          <a:xfrm>
            <a:off x="334800" y="2860560"/>
            <a:ext cx="1486080" cy="2152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32f49">
                <a:alpha val="0"/>
              </a:srgbClr>
            </a:outerShdw>
          </a:effectLst>
        </p:spPr>
      </p:pic>
      <p:sp>
        <p:nvSpPr>
          <p:cNvPr id="1034" name="矩形 3"/>
          <p:cNvSpPr/>
          <p:nvPr/>
        </p:nvSpPr>
        <p:spPr>
          <a:xfrm>
            <a:off x="430200" y="1770120"/>
            <a:ext cx="115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这首为花儿唱的赞歌里，花儿是一个什么样的形象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矩形 4"/>
          <p:cNvSpPr/>
          <p:nvPr/>
        </p:nvSpPr>
        <p:spPr>
          <a:xfrm>
            <a:off x="2254320" y="2978280"/>
            <a:ext cx="90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a1a1a"/>
                </a:solidFill>
                <a:latin typeface="楷体"/>
                <a:ea typeface="楷体"/>
              </a:rPr>
              <a:t>花儿是一个奉献者和使者，它仰望高空，向往光明，从不顾影自怜，也不孤芳自赏，与万物和谐共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同侧圆角矩形 2"/>
          <p:cNvSpPr/>
          <p:nvPr/>
        </p:nvSpPr>
        <p:spPr>
          <a:xfrm>
            <a:off x="336600" y="981000"/>
            <a:ext cx="3166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并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2" descr=""/>
          <p:cNvPicPr/>
          <p:nvPr/>
        </p:nvPicPr>
        <p:blipFill>
          <a:blip r:embed="rId2"/>
          <a:stretch/>
        </p:blipFill>
        <p:spPr>
          <a:xfrm>
            <a:off x="144360" y="1628640"/>
            <a:ext cx="3934080" cy="60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6" descr=""/>
          <p:cNvPicPr/>
          <p:nvPr/>
        </p:nvPicPr>
        <p:blipFill>
          <a:blip r:embed="rId3"/>
          <a:stretch/>
        </p:blipFill>
        <p:spPr>
          <a:xfrm>
            <a:off x="334800" y="2860560"/>
            <a:ext cx="1486080" cy="2152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32f49">
                <a:alpha val="0"/>
              </a:srgbClr>
            </a:outerShdw>
          </a:effectLst>
        </p:spPr>
      </p:pic>
      <p:sp>
        <p:nvSpPr>
          <p:cNvPr id="1039" name="矩形 3"/>
          <p:cNvSpPr/>
          <p:nvPr/>
        </p:nvSpPr>
        <p:spPr>
          <a:xfrm>
            <a:off x="430200" y="1770120"/>
            <a:ext cx="115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如何理解文章最后一段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2254320" y="2978280"/>
            <a:ext cx="90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a1a1a"/>
                </a:solidFill>
                <a:latin typeface="楷体"/>
                <a:ea typeface="楷体"/>
              </a:rPr>
              <a:t>这首散文诗表面上是写花，但真正是写人。诗人正是利用花这种大自然的语言，来寄托自己的伟大情操；同时也号召我们要“仰望高空，对光明心驰神往；不顾影自怜，也不孤芳自赏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5" descr=""/>
          <p:cNvPicPr/>
          <p:nvPr/>
        </p:nvPicPr>
        <p:blipFill>
          <a:blip r:embed="rId1"/>
          <a:stretch/>
        </p:blipFill>
        <p:spPr>
          <a:xfrm>
            <a:off x="49320" y="765000"/>
            <a:ext cx="2692440" cy="533520"/>
          </a:xfrm>
          <a:prstGeom prst="rect">
            <a:avLst/>
          </a:prstGeom>
          <a:ln w="0">
            <a:noFill/>
          </a:ln>
        </p:spPr>
      </p:pic>
      <p:sp>
        <p:nvSpPr>
          <p:cNvPr id="1042" name="直线连接符 21"/>
          <p:cNvSpPr/>
          <p:nvPr/>
        </p:nvSpPr>
        <p:spPr>
          <a:xfrm flipV="1">
            <a:off x="-49320" y="1342800"/>
            <a:ext cx="276552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3" name="Picture 2" descr=""/>
          <p:cNvPicPr/>
          <p:nvPr/>
        </p:nvPicPr>
        <p:blipFill>
          <a:blip r:embed="rId2"/>
          <a:stretch/>
        </p:blipFill>
        <p:spPr>
          <a:xfrm>
            <a:off x="2068560" y="1962000"/>
            <a:ext cx="8058240" cy="293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文本框 1"/>
          <p:cNvSpPr/>
          <p:nvPr/>
        </p:nvSpPr>
        <p:spPr>
          <a:xfrm>
            <a:off x="133200" y="1434960"/>
            <a:ext cx="1197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文是一首散文诗，诗人运用第一人称，从花的视角描画了四季更迭花开花落的景象，以及花的日常生活和品质追求，塑造了花向往光明、与万物和谐共处的鲜明形象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抒发了诗人对人生意义的独特感悟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人生要像花一样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失意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顾影自怜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得意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孤芳自赏，无论处于哪种境遇，总是积极地向往和追求光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此外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排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句式的连续运用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使本文语言富于节奏感和音韵美，呈现出浓郁的诗情画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标题 2"/>
          <p:cNvSpPr/>
          <p:nvPr/>
        </p:nvSpPr>
        <p:spPr>
          <a:xfrm>
            <a:off x="747720" y="744480"/>
            <a:ext cx="2244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概括主题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文本框 1"/>
          <p:cNvSpPr/>
          <p:nvPr/>
        </p:nvSpPr>
        <p:spPr>
          <a:xfrm>
            <a:off x="585720" y="1747800"/>
            <a:ext cx="10976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仿写句子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我是</a:t>
            </a: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亲友之间交往的礼品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我是</a:t>
            </a: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婚礼的冠冕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我是</a:t>
            </a: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生者赠予死者最后的祭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a1a1a"/>
                </a:solidFill>
                <a:latin typeface="宋体"/>
                <a:ea typeface="宋体"/>
              </a:rPr>
              <a:t>我是敬献给冠军的祝贺，我是情人心意的寄托，我是学生赠予老师的崇高敬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7" name="Picture 7" descr=""/>
          <p:cNvPicPr/>
          <p:nvPr/>
        </p:nvPicPr>
        <p:blipFill>
          <a:blip r:embed="rId1"/>
          <a:stretch/>
        </p:blipFill>
        <p:spPr>
          <a:xfrm>
            <a:off x="546120" y="836640"/>
            <a:ext cx="2692440" cy="711000"/>
          </a:xfrm>
          <a:prstGeom prst="rect">
            <a:avLst/>
          </a:prstGeom>
          <a:ln w="0">
            <a:noFill/>
          </a:ln>
        </p:spPr>
      </p:pic>
      <p:sp>
        <p:nvSpPr>
          <p:cNvPr id="1048" name="直线连接符 21"/>
          <p:cNvSpPr/>
          <p:nvPr/>
        </p:nvSpPr>
        <p:spPr>
          <a:xfrm flipV="1">
            <a:off x="642960" y="1604880"/>
            <a:ext cx="2765520" cy="79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直接连接符 6"/>
          <p:cNvSpPr/>
          <p:nvPr/>
        </p:nvSpPr>
        <p:spPr>
          <a:xfrm>
            <a:off x="493560" y="2352600"/>
            <a:ext cx="11320560" cy="648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文本框 7"/>
          <p:cNvSpPr/>
          <p:nvPr/>
        </p:nvSpPr>
        <p:spPr>
          <a:xfrm>
            <a:off x="495360" y="952560"/>
            <a:ext cx="32846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8"/>
          <p:cNvSpPr/>
          <p:nvPr/>
        </p:nvSpPr>
        <p:spPr>
          <a:xfrm>
            <a:off x="160200" y="2489040"/>
            <a:ext cx="11839680" cy="39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正确、流利、有感情地朗读诗歌，了解诗歌的主要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想象诗歌描绘的画面，深入理解课文内容，感受花儿的形象。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重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习作者第一人称的写法，感受花的精神，体会文中蕴含的哲理。（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重难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WordArt 6" descr=""/>
          <p:cNvPicPr/>
          <p:nvPr/>
        </p:nvPicPr>
        <p:blipFill>
          <a:blip r:embed="rId1"/>
          <a:stretch/>
        </p:blipFill>
        <p:spPr>
          <a:xfrm>
            <a:off x="2336760" y="2011320"/>
            <a:ext cx="8018640" cy="20718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3" descr=""/>
          <p:cNvPicPr/>
          <p:nvPr/>
        </p:nvPicPr>
        <p:blipFill>
          <a:blip r:embed="rId2"/>
          <a:stretch/>
        </p:blipFill>
        <p:spPr>
          <a:xfrm>
            <a:off x="1103400" y="3468600"/>
            <a:ext cx="3784680" cy="284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137880" y="882720"/>
            <a:ext cx="11869560" cy="55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纪伯伦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883—193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），黎巴嫩诗人、作家、画家，被称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艺术天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黎巴嫩文坛骄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，与印度的泰戈尔齐名，被并称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站在东西方文化桥梁上的两位巨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。其作品多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主题，通过大胆的想象和象征的手法，表达深沉的感情和远大的理想，并常常流露出愤世嫉俗的态度或表现某种神秘的力量，是阿拉伯近代文学史上第一个使用散文诗体的作家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主要代表作有散文诗集《泪与笑》《先知》《沙与沫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文本框 3"/>
          <p:cNvSpPr/>
          <p:nvPr/>
        </p:nvSpPr>
        <p:spPr>
          <a:xfrm>
            <a:off x="106200" y="890640"/>
            <a:ext cx="340056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硕大无朋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心驰神往：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顾影自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孤芳自赏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4"/>
          <p:cNvSpPr/>
          <p:nvPr/>
        </p:nvSpPr>
        <p:spPr>
          <a:xfrm>
            <a:off x="2957400" y="958680"/>
            <a:ext cx="8906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形容无比的大。朋：伦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文本框 5"/>
          <p:cNvSpPr/>
          <p:nvPr/>
        </p:nvSpPr>
        <p:spPr>
          <a:xfrm>
            <a:off x="2957400" y="2225520"/>
            <a:ext cx="8845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心神飞到（向往的地方），形容非常向往。神秘而迷人的九寨沟令人心驰神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6"/>
          <p:cNvSpPr/>
          <p:nvPr/>
        </p:nvSpPr>
        <p:spPr>
          <a:xfrm>
            <a:off x="2971800" y="3622680"/>
            <a:ext cx="8933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望着自己的影子，自己怜惜自己，形容孤独失意的样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8"/>
          <p:cNvSpPr/>
          <p:nvPr/>
        </p:nvSpPr>
        <p:spPr>
          <a:xfrm>
            <a:off x="2871720" y="5087880"/>
            <a:ext cx="8944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命清高，自我欣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标题 1"/>
          <p:cNvSpPr/>
          <p:nvPr/>
        </p:nvSpPr>
        <p:spPr>
          <a:xfrm>
            <a:off x="469800" y="571680"/>
            <a:ext cx="6012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朗读课文，整体感知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内容占位符 2"/>
          <p:cNvSpPr/>
          <p:nvPr/>
        </p:nvSpPr>
        <p:spPr>
          <a:xfrm>
            <a:off x="569880" y="1943280"/>
            <a:ext cx="105156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宋体"/>
              </a:rPr>
              <a:t>本首散文诗可以分成几部分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直接连接符 6"/>
          <p:cNvSpPr/>
          <p:nvPr/>
        </p:nvSpPr>
        <p:spPr>
          <a:xfrm>
            <a:off x="493560" y="3292560"/>
            <a:ext cx="11320560" cy="612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7"/>
          <p:cNvSpPr/>
          <p:nvPr/>
        </p:nvSpPr>
        <p:spPr>
          <a:xfrm>
            <a:off x="195120" y="636480"/>
            <a:ext cx="4168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分为两部分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8"/>
          <p:cNvSpPr/>
          <p:nvPr/>
        </p:nvSpPr>
        <p:spPr>
          <a:xfrm>
            <a:off x="227160" y="1568520"/>
            <a:ext cx="1157580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1——4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以一系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······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句式写花      对自己的认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5——7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写花的品格。她与自然万物和谐相处，她向往光明，从不顾影自怜，也不孤芳自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标题 1"/>
          <p:cNvSpPr/>
          <p:nvPr/>
        </p:nvSpPr>
        <p:spPr>
          <a:xfrm>
            <a:off x="789120" y="976320"/>
            <a:ext cx="8321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深入研读课文，思考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内容占位符 2"/>
          <p:cNvSpPr/>
          <p:nvPr/>
        </p:nvSpPr>
        <p:spPr>
          <a:xfrm>
            <a:off x="857160" y="2879640"/>
            <a:ext cx="8909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从哪些地方可以看出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我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是花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 txBox="1"/>
          <p:nvPr/>
        </p:nvSpPr>
        <p:spPr>
          <a:xfrm>
            <a:off x="169560" y="552600"/>
            <a:ext cx="11804760" cy="55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大自然的话语，大自然说出来，又收回去，藏在心间，然后又说一遍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这是说自然界中循环往复的花开花落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星星，从苍穹坠落在绿茵中。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交代花的整体形貌和生长环境，远观犹如草坪中亮丽的星星点点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突出花的高洁夺目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诸元素之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冬将我孕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使我开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夏让我成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令我昏昏睡去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是说花的四季变化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出花孕育、生长的过程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亲友之间交往的礼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婚礼的冠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生者赠与死者最后的祭献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这是说花的功用，可以作为表达情意的礼物，可以作为婚礼的装饰，可以作为葬礼的祭献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出了花对人类无私的奉献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直接连接符 6"/>
          <p:cNvSpPr/>
          <p:nvPr/>
        </p:nvSpPr>
        <p:spPr>
          <a:xfrm>
            <a:off x="493560" y="3292560"/>
            <a:ext cx="11320560" cy="6120"/>
          </a:xfrm>
          <a:prstGeom prst="line">
            <a:avLst/>
          </a:prstGeom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文本框 7"/>
          <p:cNvSpPr/>
          <p:nvPr/>
        </p:nvSpPr>
        <p:spPr>
          <a:xfrm>
            <a:off x="93600" y="669960"/>
            <a:ext cx="11322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将文中的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改为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花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试着读一读。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宋体"/>
              </a:rPr>
              <a:t>哪样更好呢？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8"/>
          <p:cNvSpPr/>
          <p:nvPr/>
        </p:nvSpPr>
        <p:spPr>
          <a:xfrm>
            <a:off x="177840" y="2538360"/>
            <a:ext cx="1189188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阅读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把要写的事物用拟人的手法隐藏起来，然后再进行比喻描写，是纪伯伦散文诗写作的一大特色；读这类散文诗，我们只要抓住这些比喻去想象画面，就能大致明白作者在写什么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09:01:00Z</dcterms:created>
  <dc:creator/>
  <dc:description/>
  <dc:language>en-US</dc:language>
  <cp:lastModifiedBy>万润仪器贸易公司</cp:lastModifiedBy>
  <dcterms:modified xsi:type="dcterms:W3CDTF">2020-08-24T08:41:11Z</dcterms:modified>
  <cp:revision>154</cp:revision>
  <dc:subject/>
  <dc:title>  纪伯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